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3EC-304B-4F2F-9763-D2183A3F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DDB-62A4-442F-BC1B-C29C3A3B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C459-31F9-4B1C-A112-E72AAFBB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1E16-539B-445F-847B-7B8724C9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BA7-654B-44C4-9615-097FA659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317-331F-4C64-99F5-06DD6D2E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C1C-8386-49F2-9860-4AF7A650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32D3-65D4-40CF-979C-179F6FAF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A4B-B48F-417D-B022-17F1548C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2175-AE3A-484C-BD9D-E28817BA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9A6C-862B-4D2F-A283-0DB42386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4A0-323F-43AC-9FA1-0599ED2B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1320-78EC-41DF-96F7-1F9DE23DF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oron_group" TargetMode="External"/><Relationship Id="rId2" Type="http://schemas.openxmlformats.org/officeDocument/2006/relationships/hyperlink" Target="http://en.wikipedia.org/wiki/Carbon_group" TargetMode="External"/><Relationship Id="rId3" Type="http://schemas.openxmlformats.org/officeDocument/2006/relationships/hyperlink" Target="http://en.wikipedia.org/wiki/Pnictogen" TargetMode="External"/><Relationship Id="rId4" Type="http://schemas.openxmlformats.org/officeDocument/2006/relationships/hyperlink" Target="http://en.wikipedia.org/wiki/Chalcogen" TargetMode="External"/><Relationship Id="rId5" Type="http://schemas.openxmlformats.org/officeDocument/2006/relationships/hyperlink" Target="http://en.wikipedia.org/wiki/Halogen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7191360" cy="47149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752480" y="2209680"/>
            <a:ext cx="38124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3962520"/>
            <a:ext cx="67816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Group or Representative Group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191360" cy="471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3429000"/>
            <a:ext cx="37339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4724280"/>
            <a:ext cx="3048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029200"/>
            <a:ext cx="57150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905120"/>
            <a:ext cx="3200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4952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91360" cy="4714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28800" y="1519200"/>
            <a:ext cx="99036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29400" y="1595520"/>
            <a:ext cx="25905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7760" y="167148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24480" y="1976400"/>
            <a:ext cx="4572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33526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48640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ner 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s, Metalloids, and Non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296200" cy="4444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95680" y="2362320"/>
            <a:ext cx="9144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ll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62120" y="1295280"/>
            <a:ext cx="7923960" cy="5257440"/>
            <a:chOff x="762120" y="1295280"/>
            <a:chExt cx="7923960" cy="525744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7872120" cy="525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"/>
            <p:cNvGrpSpPr/>
            <p:nvPr/>
          </p:nvGrpSpPr>
          <p:grpSpPr>
            <a:xfrm>
              <a:off x="845640" y="1550160"/>
              <a:ext cx="7840440" cy="3058560"/>
              <a:chOff x="845640" y="1550160"/>
              <a:chExt cx="7840440" cy="3058560"/>
            </a:xfrm>
          </p:grpSpPr>
          <p:sp>
            <p:nvSpPr>
              <p:cNvPr id="69" name=""/>
              <p:cNvSpPr/>
              <p:nvPr/>
            </p:nvSpPr>
            <p:spPr>
              <a:xfrm>
                <a:off x="5850000" y="1550160"/>
                <a:ext cx="2585520" cy="110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50760" y="2485080"/>
                <a:ext cx="2251800" cy="59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50760" y="3079440"/>
                <a:ext cx="2085120" cy="50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767640" y="3589200"/>
                <a:ext cx="1751400" cy="50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84880" y="4098960"/>
                <a:ext cx="1501200" cy="50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45640" y="1550160"/>
                <a:ext cx="583920" cy="59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1905120" y="1600200"/>
            <a:ext cx="3657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63244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Transition Me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590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8670800">
            <a:off x="717120" y="1188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8565200">
            <a:off x="1098000" y="883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754200">
            <a:off x="6203520" y="24069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e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loid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emimeta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495680" y="2133720"/>
          <a:ext cx="3657600" cy="2768400"/>
        </p:xfrm>
        <a:graphic>
          <a:graphicData uri="http://schemas.openxmlformats.org/drawingml/2006/table">
            <a:tbl>
              <a:tblPr/>
              <a:tblGrid>
                <a:gridCol w="768240"/>
                <a:gridCol w="792360"/>
                <a:gridCol w="776160"/>
                <a:gridCol w="692280"/>
                <a:gridCol w="628560"/>
              </a:tblGrid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Carb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Nitro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Oxy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Fluor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Alumin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ic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Phosphor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Sulf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Chlor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Ga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Gall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man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se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Selen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Brom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In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T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mo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lu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Iod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Thall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L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Bism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on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At</a:t>
                      </a:r>
                      <a:br>
                        <a:rPr sz="1200"/>
                      </a:b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Astat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33520" y="2514600"/>
            <a:ext cx="3352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loids contain physical and chemical properties of both metals and non-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590920"/>
            <a:ext cx="464832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2514600"/>
            <a:ext cx="38088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3048120"/>
            <a:ext cx="3808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3505320"/>
            <a:ext cx="38124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3886200"/>
            <a:ext cx="38088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5181480"/>
            <a:ext cx="76176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2514600"/>
            <a:ext cx="7621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8290400">
            <a:off x="6737040" y="1568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8364800">
            <a:off x="7329240" y="1230480"/>
            <a:ext cx="16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ble G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1752480"/>
            <a:ext cx="335268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5640" y="342252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metals are generally gases or brittle, dull-looking solids.  They are poor conductors of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695920" y="2324160"/>
            <a:ext cx="2359080" cy="3370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91280" y="4324320"/>
            <a:ext cx="822240" cy="17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19560" y="3422520"/>
            <a:ext cx="1086120" cy="229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00920" y="3878280"/>
            <a:ext cx="49680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11960" y="2820960"/>
            <a:ext cx="249120" cy="60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33920" y="2048040"/>
            <a:ext cx="1135080" cy="69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705360" cy="3902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09480" y="2286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495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114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3048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9480" y="3352680"/>
            <a:ext cx="381240" cy="749520"/>
            <a:chOff x="609480" y="3352680"/>
            <a:chExt cx="381240" cy="749520"/>
          </a:xfrm>
        </p:grpSpPr>
        <p:sp>
          <p:nvSpPr>
            <p:cNvPr id="110" name=""/>
            <p:cNvSpPr/>
            <p:nvPr/>
          </p:nvSpPr>
          <p:spPr>
            <a:xfrm>
              <a:off x="609480" y="37339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480" y="3352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752480" y="3352680"/>
            <a:ext cx="381240" cy="1434960"/>
            <a:chOff x="1752480" y="3352680"/>
            <a:chExt cx="381240" cy="1434960"/>
          </a:xfrm>
        </p:grpSpPr>
        <p:sp>
          <p:nvSpPr>
            <p:cNvPr id="113" name=""/>
            <p:cNvSpPr/>
            <p:nvPr/>
          </p:nvSpPr>
          <p:spPr>
            <a:xfrm>
              <a:off x="1752480" y="4038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2480" y="44193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52480" y="3352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52480" y="3657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905120" y="5029200"/>
            <a:ext cx="380880" cy="749520"/>
            <a:chOff x="1905120" y="5029200"/>
            <a:chExt cx="380880" cy="749520"/>
          </a:xfrm>
        </p:grpSpPr>
        <p:sp>
          <p:nvSpPr>
            <p:cNvPr id="118" name=""/>
            <p:cNvSpPr/>
            <p:nvPr/>
          </p:nvSpPr>
          <p:spPr>
            <a:xfrm>
              <a:off x="1905120" y="54104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5120" y="5029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 rot="5400000">
            <a:off x="1256760" y="1562040"/>
            <a:ext cx="381240" cy="762120"/>
          </a:xfrm>
          <a:custGeom>
            <a:avLst/>
            <a:gdLst>
              <a:gd name="textAreaLeft" fmla="*/ 243720 w 381240"/>
              <a:gd name="textAreaRight" fmla="*/ 381600 w 3812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1371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6324120" y="914040"/>
            <a:ext cx="380880" cy="2210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1447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341520" y="1218960"/>
            <a:ext cx="533520" cy="3581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2362320"/>
            <a:ext cx="19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4572000" y="3581280"/>
            <a:ext cx="533520" cy="5105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6491160"/>
            <a:ext cx="19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2:58:10Z</dcterms:created>
  <dc:creator>Dawn Pav</dc:creator>
  <dc:description/>
  <dc:language>en-US</dc:language>
  <cp:lastModifiedBy>Dawn Pav</cp:lastModifiedBy>
  <dcterms:modified xsi:type="dcterms:W3CDTF">2010-11-24T22:59:36Z</dcterms:modified>
  <cp:revision>1</cp:revision>
  <dc:subject/>
  <dc:title>Slide 1</dc:title>
</cp:coreProperties>
</file>